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AAACA-2F52-41E3-9D32-E35A2DEBC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8ABED-1530-4E61-A677-6C22FDB2E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9F285-E672-4FAB-A989-73E76486E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1CE9E-F083-4639-A321-D94129A23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D4D58-E7FA-424F-9FB3-ABA2BDF70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CC1DC-6E48-45B3-9925-85049619C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CE5C7-A4F8-42DF-96F5-638CD0BF9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A989D-3D93-4946-B249-0106A7310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4462B-FECC-485C-B57A-F8BE94C89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54611-FE8A-44A4-85A7-11C411282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5DAE2-4E97-43D2-B953-AB2074132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20D81-BB60-4C2A-83FC-59D838962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18900-B05B-467D-BB20-D7EE0C88AB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madjack.ru/assets_c/2010/03/hosting-thumb-520x324-358.jpg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s39.radikal.ru/i083/1002/13/ed0f267a6aaa.jpg" TargetMode="External"/><Relationship Id="rId3" Type="http://schemas.openxmlformats.org/officeDocument/2006/relationships/image" Target="../media/image5.jpeg"/><Relationship Id="rId4" Type="http://schemas.openxmlformats.org/officeDocument/2006/relationships/hyperlink" Target="http://www.prinet.ru/yandex-srch.jpg" TargetMode="External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soft.oszone.net/images/screenshot/?soft=9892" TargetMode="Externa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netprofessional.ru/uploads/posts/1200855780_sc3-2a.gif" TargetMode="External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ledinn.ru/userfiles/burevestnik(1).jpg" TargetMode="Externa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glavpoker.ru/spaw2/temp/images/uploaded_87dacf6a70d0714836c313a100dcf968.jpg" TargetMode="Externa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1692360" y="476280"/>
            <a:ext cx="5832360" cy="43894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800" spc="-1" strike="noStrike" u="sng">
                <a:solidFill>
                  <a:srgbClr val="009999"/>
                </a:solidFill>
                <a:uFillTx/>
                <a:latin typeface="Mistral"/>
              </a:rPr>
              <a:t>Электронная </a:t>
            </a:r>
            <a:br>
              <a:rPr sz="8800"/>
            </a:br>
            <a:r>
              <a:rPr b="0" i="1" lang="en-US" sz="8800" spc="-1" strike="noStrike" u="sng">
                <a:solidFill>
                  <a:srgbClr val="009999"/>
                </a:solidFill>
                <a:uFillTx/>
                <a:latin typeface="Mistral"/>
              </a:rPr>
              <a:t>коммерция </a:t>
            </a:r>
            <a:br>
              <a:rPr sz="8800"/>
            </a:br>
            <a:r>
              <a:rPr b="0" i="1" lang="en-US" sz="8800" spc="-1" strike="noStrike" u="sng">
                <a:solidFill>
                  <a:srgbClr val="009999"/>
                </a:solidFill>
                <a:uFillTx/>
                <a:latin typeface="Mistral"/>
              </a:rPr>
              <a:t>в Интернете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403280" y="5373360"/>
            <a:ext cx="64008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аранцева О.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учитель информатики и ИК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МОУ СОШ №1 г. Спасска Пензенской обл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9640" y="692280"/>
            <a:ext cx="8229600" cy="28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bbe0e3"/>
                </a:solidFill>
                <a:latin typeface="Informal Roman"/>
              </a:rPr>
              <a:t>Электронная коммерция в Интернете — это коммерческая деятельность в сфере рекламы и распространения товаров и услуг посредством использования сети Интернет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68360" y="530064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Informal Roman"/>
              </a:rPr>
              <a:t>В настоящее время электронная коммерция быстро развивается и, по статистике, уже более 200 миллионов человек во всем мире регулярно совершают покупки в Интернет-магазинах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3924360" y="3357720"/>
            <a:ext cx="302400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bbe0e3"/>
                </a:solidFill>
                <a:latin typeface="Informal Roman"/>
              </a:rPr>
              <a:t>Хостинг – это услуга по размещению информации во Всемирной паутине.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8360" y="4941720"/>
            <a:ext cx="8229600" cy="13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Informal Roman"/>
              </a:rPr>
              <a:t>Хостинг включает в себя предоставление дискового пространства для размещения Web-сайтов на Web-серверах, предоставления к ним доступа по каналу связи с определенной пропускной способностью, а также прав администрирования сайта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Картинка 76 из 200335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476360" y="2133720"/>
            <a:ext cx="619272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bbe0e3"/>
                </a:solidFill>
                <a:latin typeface="Informal Roman"/>
              </a:rPr>
              <a:t>Реклама в Интернете – это особый вид рекламы, который использует различные интернет-сред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556000" y="2205000"/>
            <a:ext cx="503280" cy="647640"/>
          </a:xfrm>
          <a:prstGeom prst="line">
            <a:avLst/>
          </a:prstGeom>
          <a:ln w="38160">
            <a:solidFill>
              <a:srgbClr val="bbe0e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35640" y="2205000"/>
            <a:ext cx="504720" cy="576360"/>
          </a:xfrm>
          <a:prstGeom prst="line">
            <a:avLst/>
          </a:prstGeom>
          <a:ln w="38160">
            <a:solidFill>
              <a:srgbClr val="bbe0e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611280" y="3141720"/>
            <a:ext cx="338436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bbe0e3"/>
                  </a:solidFill>
                  <a:miter/>
                </a:ln>
                <a:solidFill>
                  <a:srgbClr val="bbe0e3"/>
                </a:solidFill>
                <a:latin typeface="Arial"/>
              </a:rPr>
              <a:t>медийная - в форме</a:t>
            </a:r>
            <a:endParaRPr b="0" i="1" lang="en-US" sz="2000" spc="1" strike="noStrike">
              <a:ln w="9360">
                <a:solidFill>
                  <a:srgbClr val="bbe0e3"/>
                </a:solidFill>
                <a:miter/>
              </a:ln>
              <a:solidFill>
                <a:srgbClr val="bbe0e3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bbe0e3"/>
                  </a:solidFill>
                  <a:miter/>
                </a:ln>
                <a:solidFill>
                  <a:srgbClr val="bbe0e3"/>
                </a:solidFill>
                <a:latin typeface="Arial"/>
              </a:rPr>
              <a:t>баннерной ссылки</a:t>
            </a:r>
            <a:endParaRPr b="0" i="1" lang="en-US" sz="2000" spc="1" strike="noStrike">
              <a:ln w="9360">
                <a:solidFill>
                  <a:srgbClr val="bbe0e3"/>
                </a:solidFill>
                <a:miter/>
              </a:ln>
              <a:solidFill>
                <a:srgbClr val="bbe0e3"/>
              </a:solidFill>
              <a:latin typeface="Arial"/>
              <a:ea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643280" y="3213000"/>
            <a:ext cx="338472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bbe0e3"/>
                  </a:solidFill>
                  <a:miter/>
                </a:ln>
                <a:solidFill>
                  <a:srgbClr val="bbe0e3"/>
                </a:solidFill>
                <a:latin typeface="Arial"/>
              </a:rPr>
              <a:t>контекстная - рядом</a:t>
            </a:r>
            <a:endParaRPr b="0" i="1" lang="en-US" sz="2000" spc="1" strike="noStrike">
              <a:ln w="9360">
                <a:solidFill>
                  <a:srgbClr val="bbe0e3"/>
                </a:solidFill>
                <a:miter/>
              </a:ln>
              <a:solidFill>
                <a:srgbClr val="bbe0e3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bbe0e3"/>
                  </a:solidFill>
                  <a:miter/>
                </a:ln>
                <a:solidFill>
                  <a:srgbClr val="bbe0e3"/>
                </a:solidFill>
                <a:latin typeface="Arial"/>
              </a:rPr>
              <a:t>с результами поиска</a:t>
            </a:r>
            <a:endParaRPr b="0" i="1" lang="en-US" sz="2000" spc="1" strike="noStrike">
              <a:ln w="9360">
                <a:solidFill>
                  <a:srgbClr val="bbe0e3"/>
                </a:solidFill>
                <a:miter/>
              </a:ln>
              <a:solidFill>
                <a:srgbClr val="bbe0e3"/>
              </a:solidFill>
              <a:latin typeface="Arial"/>
              <a:ea typeface="Arial"/>
            </a:endParaRPr>
          </a:p>
        </p:txBody>
      </p:sp>
      <p:pic>
        <p:nvPicPr>
          <p:cNvPr id="55" name="" descr="Картинка 14 из 17562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84360" y="4192560"/>
            <a:ext cx="3240000" cy="19382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Картинка 10 из 10190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572000" y="4005360"/>
            <a:ext cx="360036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bbe0e3"/>
                </a:solidFill>
                <a:latin typeface="Informal Roman"/>
              </a:rPr>
              <a:t>Доска объявлений – это сайт аналогичный обычным рекламным газетам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360" y="4941720"/>
            <a:ext cx="8229600" cy="13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Informal Roman"/>
              </a:rPr>
              <a:t>Простейшим вариантом электронной торговли являются виртуальные доски объявлений, где продавцы и покупатели просто обмениваются информацией о предлагаемом товаре (аналог газеты «Из рук в руки»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32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Картинка 106 из 24017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124000" y="1989000"/>
            <a:ext cx="3853080" cy="27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bbe0e3"/>
                </a:solidFill>
                <a:latin typeface="Informal Roman"/>
              </a:rPr>
              <a:t>Интернет-аукцион – это аукцион, проводящийся посредством Интернета дистанционно.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8360" y="4941720"/>
            <a:ext cx="8229600" cy="13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Informal Roman"/>
              </a:rPr>
              <a:t>Интересной формой электронной торговли являются Интернет-аукционы. На такие аукционы выставляются самые разные товары: произведения искусства, компьютерная техника, автомобили и т. 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Картинка 13 из 512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857680" y="2176560"/>
            <a:ext cx="3730320" cy="272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453528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bbe0e3"/>
                </a:solidFill>
                <a:latin typeface="Informal Roman"/>
              </a:rPr>
              <a:t>Интернет-магазин – это веб-сайт, рекламирующий товар или услугу, принимающий заказы на покупку, предлагающий выбор варианта расчёта, способа получения заказа и выписывающий счёт на оплату.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003640" y="1413000"/>
            <a:ext cx="335304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549360"/>
            <a:ext cx="822960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bbe0e3"/>
                </a:solidFill>
                <a:latin typeface="Informal Roman"/>
              </a:rPr>
              <a:t>Цифровые деньги – это специальное платёжное средство в электронном виде, которое находится на электронном носителе в распоряжении пользователя.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684360" y="4149720"/>
            <a:ext cx="3095640" cy="1922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Цифровые (электронные)</a:t>
            </a:r>
            <a:endParaRPr b="0" lang="en-US" sz="20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деньги выпускают</a:t>
            </a:r>
            <a:endParaRPr b="0" lang="en-US" sz="20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специальные организа-</a:t>
            </a:r>
            <a:endParaRPr b="0" lang="en-US" sz="20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ции для развития</a:t>
            </a:r>
            <a:endParaRPr b="0" lang="en-US" sz="20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и финансирования</a:t>
            </a:r>
            <a:endParaRPr b="0" lang="en-US" sz="20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своей деятельности</a:t>
            </a:r>
            <a:endParaRPr b="0" lang="en-US" sz="20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67" name="" descr="Картинка 104 из 21503">
            <a:hlinkClick r:id="rId2"/>
          </p:cNvPr>
          <p:cNvPicPr/>
          <p:nvPr/>
        </p:nvPicPr>
        <p:blipFill>
          <a:blip r:embed="rId3"/>
          <a:srcRect l="0" t="20792" r="0" b="0"/>
          <a:stretch/>
        </p:blipFill>
        <p:spPr>
          <a:xfrm>
            <a:off x="3995640" y="3527280"/>
            <a:ext cx="4429080" cy="26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84360" y="836640"/>
            <a:ext cx="7848360" cy="518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0T11:29:46Z</dcterms:created>
  <dc:creator>Учитель</dc:creator>
  <dc:description/>
  <dc:language>en-US</dc:language>
  <cp:lastModifiedBy>учитель</cp:lastModifiedBy>
  <dcterms:modified xsi:type="dcterms:W3CDTF">2010-10-26T15:05:34Z</dcterms:modified>
  <cp:revision>5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300061411049</vt:lpwstr>
  </property>
</Properties>
</file>